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2A74F-5700-4BFB-9756-24FACD508A3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14234-7FB5-49ED-8B57-048C70B63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knowledge and responds appropriately to the cultural background and learning needs of non-native English speak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BA9EC-3F92-47AC-BC0A-2F17B2F68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criteria</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2B0DA-9A0E-4E08-BBB5-656D12022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standard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has experienced online learning from the perspective of a studen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695CA-176B-47BE-B008-2A4381C18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ll one criteria previously</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2076B-1705-4497-97EA-C55F1975D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students who are not particip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s in a consistent and reasonable manner until students are successful</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F9C68-FF6B-4BF7-8EB6-F05817B9E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D8974-9CB0-4307-B586-F4DDB1A82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e: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C04D5-FAC3-40E1-B085-D9658EB13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f: was folded into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understands and is responsive to students with special needs in the online class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C5DFB-9516-4B78-8A26-4880CDC77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C15F1-11D7-4A02-973E-443A9D40F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E047C-A637-497A-ACE0-BEBA861A1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 </a:t>
            </a:r>
            <a:r>
              <a:rPr b="0" lang="en-US" sz="1200" spc="-1" strike="noStrike">
                <a:solidFill>
                  <a:srgbClr val="000000"/>
                </a:solidFill>
                <a:latin typeface="Arial"/>
                <a:ea typeface="Arial"/>
              </a:rPr>
              <a:t>to provide a comprehensive list of standards that could be applied nationally to aid K-12 districts and organiz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Quality Online Teaching and Online Teaching Evaluation for State Virtual Schools.</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13BE1-2EE1-49E1-9850-2078057D5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B56C5-5322-4CD8-B7EA-B03B6D5DD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 post testing</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1DAB1-B47B-4D97-8A9C-7275AE8DC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es each </a:t>
            </a:r>
            <a:r>
              <a:rPr b="0" i="1" lang="en-US" sz="1200" spc="-1" strike="noStrike">
                <a:solidFill>
                  <a:srgbClr val="ff0000"/>
                </a:solidFill>
                <a:latin typeface="Calibri"/>
              </a:rPr>
              <a:t>student’s background </a:t>
            </a:r>
            <a:r>
              <a:rPr b="0" lang="en-US" sz="1200" spc="-1" strike="noStrike">
                <a:solidFill>
                  <a:srgbClr val="ff0000"/>
                </a:solidFill>
                <a:latin typeface="Calibri"/>
              </a:rPr>
              <a:t>and content knowledge </a:t>
            </a:r>
            <a:r>
              <a:rPr b="0" lang="en-US" sz="1200" spc="-1" strike="noStrike">
                <a:solidFill>
                  <a:srgbClr val="000000"/>
                </a:solidFill>
                <a:latin typeface="Calibri"/>
              </a:rPr>
              <a:t>and uses these data to plan instruction</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CB7FE-9301-4285-9E7E-F41FA9B4C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9892B-F4BC-49AA-9A42-40CC82053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collaborates with colleag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6580A-9776-4762-A18B-4046D0140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D427F-E6AE-4176-A3E9-0A6932695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2EF7B-F53F-4EB2-9E41-44E47C0E5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r>
              <a:rPr b="0" lang="en-US" sz="1200" spc="-1" strike="noStrike">
                <a:solidFill>
                  <a:srgbClr val="000000"/>
                </a:solidFill>
                <a:latin typeface="Arial"/>
                <a:ea typeface="Arial"/>
              </a:rPr>
              <a:t>A group of online education experts across the country…across the globe were gathered into a committee for discussion and deliberation on editing the teach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mittee met regularly throughout the months of May, June, July and August to refresh, clarify and refine the exist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standard was discussed one by one and suggestions were made and contempl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ynchronous feedback was also applied using Google doc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A98DA-84F8-4FE4-8887-E597874FF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5850A-99D4-4B71-979F-165F4A495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suppor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8BD80-3231-46BD-B8D4-1E87F39E1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 support)</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86AFF-832F-4A4E-B0E0-600A8CBF3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meets the professional teaching standards established by a state licensing agency or the teacher has academic credentials in the field in which he or she is teaching.</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DED3E-D27F-45E1-A783-7CC5018B3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b: The teacher has the prerequisite technology skills to teach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the ability to effectively use word-processing, spreadsheet and presentation softw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effectively use of internet browsers, email applications and appropriate online etiquet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s synchronous and asynchronous tools effectively.</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8DDD0-F27F-4EC8-933E-09EE06958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7766A-66FC-4091-A93E-2A224D17C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8C19-302D-4B24-A3CC-E4FF747B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CACE-2B5A-454C-A812-E5A8F51EA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70A38-D191-460A-A9AF-EB67D03D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0AB5-596C-470F-8113-F8C76134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C06F-1A53-4E70-8342-BB716EF32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2751-65FF-4804-8DD8-62A82BE76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388E-B950-4370-BF0A-B4D6C0253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79765-742F-46BD-A998-002E494D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52EFF-890E-4409-8705-5E93F0673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53367-02EE-473F-B620-F00C9608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1E7E6-78AA-4D4D-A821-632634BBC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43DFD-1790-40C8-BD4C-78F392B36A00}"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7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2FC1F-8C9F-4197-9224-02F071775C7C}"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2040" y="338040"/>
            <a:ext cx="8980200" cy="4391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600"/>
            </a:br>
            <a:br>
              <a:rPr sz="4600"/>
            </a:br>
            <a:r>
              <a:rPr b="0" lang="en-US" sz="4600" spc="-1" strike="noStrike">
                <a:solidFill>
                  <a:srgbClr val="ffffff"/>
                </a:solidFill>
                <a:latin typeface="Arial"/>
              </a:rPr>
              <a:t>iNACOL National Standards for Quality Online Teaching, </a:t>
            </a:r>
            <a:br>
              <a:rPr sz="4600"/>
            </a:br>
            <a:r>
              <a:rPr b="0" lang="en-US" sz="4600" spc="-1" strike="noStrike">
                <a:solidFill>
                  <a:srgbClr val="ffffff"/>
                </a:solidFill>
                <a:latin typeface="Arial"/>
              </a:rPr>
              <a:t>Version 2</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echniques to adjust communications to diverse persp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Respond appropriately to the diverse backgrounds and learning needs of the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techniques and applications of  online instructional strategies, based on current research and 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Use student-centered instructional strategies that are connected to real-world applications to engage students in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participation in an online course from a student-centered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Apply experiences as an online student and/or group to demonstrate the development and implementation of successful strategies for online teaching environments and to anticipate challenges and problems in the online class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8" name=""/>
          <p:cNvGraphicFramePr/>
          <p:nvPr/>
        </p:nvGraphicFramePr>
        <p:xfrm>
          <a:off x="457200" y="2422440"/>
          <a:ext cx="8229600" cy="449100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27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provide clear expectations of class interaction for both teacher and student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assessment criteria for the course to studen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expectations of teacher response time to student quer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implement criteria for appropriate online behavior for both teacher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0"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 </a:t>
                      </a:r>
                      <a:r>
                        <a:rPr b="0" lang="en-US" sz="1800" spc="-1" strike="noStrike">
                          <a:solidFill>
                            <a:srgbClr val="ff0000"/>
                          </a:solidFill>
                          <a:latin typeface="Calibri"/>
                          <a:ea typeface="Geneva"/>
                        </a:rPr>
                        <a:t>variety of methods and tools </a:t>
                      </a:r>
                      <a:r>
                        <a:rPr b="0" lang="en-US" sz="1800" spc="-1" strike="noStrike">
                          <a:solidFill>
                            <a:srgbClr val="000000"/>
                          </a:solidFill>
                          <a:latin typeface="Calibri"/>
                          <a:ea typeface="Geneva"/>
                        </a:rPr>
                        <a:t>to </a:t>
                      </a:r>
                      <a:r>
                        <a:rPr b="0" lang="en-US" sz="1800" spc="-1" strike="noStrike">
                          <a:solidFill>
                            <a:srgbClr val="ff0000"/>
                          </a:solidFill>
                          <a:latin typeface="Calibri"/>
                          <a:ea typeface="Geneva"/>
                        </a:rPr>
                        <a:t>reach and engage </a:t>
                      </a:r>
                      <a:r>
                        <a:rPr b="0" lang="en-US" sz="1800" spc="-1" strike="noStrike">
                          <a:solidFill>
                            <a:srgbClr val="000000"/>
                          </a:solidFill>
                          <a:latin typeface="Calibri"/>
                          <a:ea typeface="Geneva"/>
                        </a:rPr>
                        <a:t>students who are </a:t>
                      </a:r>
                      <a:r>
                        <a:rPr b="0" lang="en-US" sz="1800" spc="-1" strike="noStrike">
                          <a:solidFill>
                            <a:srgbClr val="ff0000"/>
                          </a:solidFill>
                          <a:latin typeface="Calibri"/>
                          <a:ea typeface="Geneva"/>
                        </a:rPr>
                        <a:t>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 variety of methods and tools to reach and engage students who are 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aligning teacher and student expectations for the course, in gene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rient students to teacher’s instructional methods and goals and invite students to provide feedback on their perceptions of how they are learning in a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4"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E. The online teacher models, guides, and encourages legal, ethical, and safe behavior related to technology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responsibilities of </a:t>
                      </a:r>
                      <a:r>
                        <a:rPr b="0" lang="en-US" sz="1800" spc="-1" strike="noStrike">
                          <a:solidFill>
                            <a:srgbClr val="ff0000"/>
                          </a:solidFill>
                          <a:latin typeface="Calibri"/>
                          <a:ea typeface="Geneva"/>
                        </a:rPr>
                        <a:t>digital citizenship</a:t>
                      </a:r>
                      <a:r>
                        <a:rPr b="0" lang="en-US" sz="1800" spc="-1" strike="noStrike">
                          <a:solidFill>
                            <a:srgbClr val="000000"/>
                          </a:solidFill>
                          <a:latin typeface="Calibri"/>
                          <a:ea typeface="Geneva"/>
                        </a:rPr>
                        <a:t> </a:t>
                      </a:r>
                      <a:r>
                        <a:rPr b="0" lang="en-US" sz="1800" spc="-1" strike="noStrike">
                          <a:solidFill>
                            <a:srgbClr val="ff0000"/>
                          </a:solidFill>
                          <a:latin typeface="Calibri"/>
                          <a:ea typeface="Geneva"/>
                        </a:rPr>
                        <a:t>and techniques  </a:t>
                      </a:r>
                      <a:r>
                        <a:rPr b="0" lang="en-US" sz="1800" spc="-1" strike="noStrike">
                          <a:solidFill>
                            <a:srgbClr val="000000"/>
                          </a:solidFill>
                          <a:latin typeface="Calibri"/>
                          <a:ea typeface="Geneva"/>
                        </a:rPr>
                        <a:t>to facilitate student investigations of the legal and ethical issues related to technology and soc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standards for student behavior that are designed to ensure academic integrity and appropriate use of the Internet and online written communication; teach students that copyright laws are created for a rea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6"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Legal mandates stipulated by the Americans with Disabilities Act (ADA), the Individuals with Disabilities Education Act (IDEA), the Assistive Technology Act, and Section 508 or other similar guidelines/requirements for access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7f7f7f"/>
                          </a:solidFill>
                          <a:latin typeface="Calibri"/>
                          <a:ea typeface="Geneva"/>
                        </a:rPr>
                        <a:t>Monitor student progress and apply activities and tools that are relevant to the needs of all students, including those with learning or physical disabilities, in collaboration with appropriate staff or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8"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tools and technologies to make accommodations to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adaptive/assistive technologies are used to help people who have disabilities gain access to information that might otherwise be inacces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ppropriate tools and technologies to make accommodations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Apply adaptive and assistive technologies into the online classroom where appropriate in the instruction to meet student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0" name=""/>
          <p:cNvGraphicFramePr/>
          <p:nvPr/>
        </p:nvGraphicFramePr>
        <p:xfrm>
          <a:off x="457200" y="2422440"/>
          <a:ext cx="8229600" cy="42163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526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connecting with local support personnel to verify student's IEP requirements or 504 accommodations needed for student succes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diversity of student learning needs, languages, and backgro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ommunicate with the appropriate school staff regarding specific accommodations, modifications, or needs as listed in a student's IEP or 504 accommodations, and work in collaboration with others to address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Demonstrate awareness of different learning preferences, diversity, and universal design princ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ackground of Teaching Standards</a:t>
            </a:r>
            <a:endParaRPr b="0" lang="en-US" sz="4400" spc="-1" strike="noStrike">
              <a:solidFill>
                <a:srgbClr val="000000"/>
              </a:solidFill>
              <a:latin typeface="Arial"/>
            </a:endParaRPr>
          </a:p>
        </p:txBody>
      </p:sp>
      <p:sp>
        <p:nvSpPr>
          <p:cNvPr id="202" name=""/>
          <p:cNvSpPr txBox="1"/>
          <p:nvPr/>
        </p:nvSpPr>
        <p:spPr>
          <a:xfrm>
            <a:off x="457200" y="3457080"/>
            <a:ext cx="8229600" cy="262908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iNACOL National Standards for Quality Online Teaching were first created in 2008</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Adapted from the SREB Standard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G. The online teacher demonstrates competencies in creating and implementing assessments in online learning environments in ways that ensure validity and reliability of the assessment instruments and proced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Multiple strategies for ensuring the security of online student assessments, academic integrity, and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Implement a variety of assessments that ensure the security of student assessment data and accurate measures of student 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H. The online teacher develops and delivers assessments, projects, and assignments that meet standards-based learning goals and assesses learning progress by measuring student achievement of the learning go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of continuous evaluation of students to include </a:t>
                      </a:r>
                      <a:r>
                        <a:rPr b="0" lang="en-US" sz="1800" spc="-1" strike="noStrike">
                          <a:solidFill>
                            <a:srgbClr val="ff0000"/>
                          </a:solidFill>
                          <a:latin typeface="Calibri"/>
                          <a:ea typeface="Geneva"/>
                        </a:rPr>
                        <a:t>formative and summative </a:t>
                      </a:r>
                      <a:r>
                        <a:rPr b="0" lang="en-US" sz="1800" spc="-1" strike="noStrike">
                          <a:solidFill>
                            <a:srgbClr val="000000"/>
                          </a:solidFill>
                          <a:latin typeface="Calibri"/>
                          <a:ea typeface="Geneva"/>
                        </a:rPr>
                        <a:t>assessments and student feedback, including polls and surveys that reflect student learning progress throughout the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eate or select and implement a variety </a:t>
                      </a:r>
                      <a:r>
                        <a:rPr b="0" lang="en-US" sz="1800" spc="-1" strike="noStrike">
                          <a:solidFill>
                            <a:srgbClr val="ff0000"/>
                          </a:solidFill>
                          <a:latin typeface="Calibri"/>
                          <a:ea typeface="Geneva"/>
                        </a:rPr>
                        <a:t>of formative and summative </a:t>
                      </a:r>
                      <a:r>
                        <a:rPr b="0" lang="en-US" sz="1800" spc="-1" strike="noStrike">
                          <a:solidFill>
                            <a:srgbClr val="000000"/>
                          </a:solidFill>
                          <a:latin typeface="Calibri"/>
                          <a:ea typeface="Geneva"/>
                        </a:rPr>
                        <a:t>assessments that assess student learning progress and utilize student feedback to improve the online learning 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echniques to plan individualized instruction, incorporating student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instruction is based on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student data to plan instruc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ustomize instruction, based on assessment data, in order to personalize the learning experience per student needs and perform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8"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ffective time management strateg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nline course management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consistent feedback and course materials in a timely manner, and use online tool functionality to improve instructional efficiency</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7f7f7f"/>
                          </a:solidFill>
                          <a:latin typeface="Calibri"/>
                          <a:ea typeface="Geneva"/>
                        </a:rPr>
                        <a:t> </a:t>
                      </a: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rack student enrollments, communication logs, attendance record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J. The online teacher interacts in a professional, effective manner with colleagues, parents, and other members of the community to support students' su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for professional activity and collaboration beyond school (e.g., professional learning communities) to update academic skills and knowledge and collaborate with other educato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to coordinate learning experiences with adult professionals (e.g., parents, local school contacts, mentors) to support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ngage in professional development activities and collaboration beyond schoo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ongoing communication with parents or guardians concerning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K. The online teacher arranges media and content to help students and teachers transfer knowledge most effectively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online teacher knows and understand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itical digital literacies and 21st century skill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use of technologies to enhance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y create the standards and why do they need to be updated?</a:t>
            </a:r>
            <a:endParaRPr b="0" lang="en-US" sz="3600" spc="-1" strike="noStrike">
              <a:solidFill>
                <a:srgbClr val="000000"/>
              </a:solidFill>
              <a:latin typeface="Arial"/>
            </a:endParaRPr>
          </a:p>
        </p:txBody>
      </p:sp>
      <p:sp>
        <p:nvSpPr>
          <p:cNvPr id="204" name=""/>
          <p:cNvSpPr txBox="1"/>
          <p:nvPr/>
        </p:nvSpPr>
        <p:spPr>
          <a:xfrm>
            <a:off x="457200" y="3304800"/>
            <a:ext cx="8229600" cy="2629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nging field of Online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sideration of blended learning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pdatin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339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verview of Standards Refresh Process</a:t>
            </a:r>
            <a:endParaRPr b="0" lang="en-US" sz="4400" spc="-1" strike="noStrike">
              <a:solidFill>
                <a:srgbClr val="000000"/>
              </a:solidFill>
              <a:latin typeface="Arial"/>
            </a:endParaRPr>
          </a:p>
        </p:txBody>
      </p:sp>
      <p:sp>
        <p:nvSpPr>
          <p:cNvPr id="206" name=""/>
          <p:cNvSpPr txBox="1"/>
          <p:nvPr/>
        </p:nvSpPr>
        <p:spPr>
          <a:xfrm>
            <a:off x="457200" y="3009960"/>
            <a:ext cx="8229600" cy="3309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rmed Committe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Met regular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Each standard was discussed thorough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llaboration via Google do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urvey of iNACOL Membership and experts in the fiel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47600" y="674640"/>
            <a:ext cx="6296040" cy="633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 Online Teacher IS …</a:t>
            </a:r>
            <a:endParaRPr b="0" lang="en-US" sz="3200" spc="-1" strike="noStrike">
              <a:solidFill>
                <a:srgbClr val="000000"/>
              </a:solidFill>
              <a:latin typeface="Arial"/>
            </a:endParaRPr>
          </a:p>
        </p:txBody>
      </p:sp>
      <p:sp>
        <p:nvSpPr>
          <p:cNvPr id="208" name="TextBox 3"/>
          <p:cNvSpPr/>
          <p:nvPr/>
        </p:nvSpPr>
        <p:spPr>
          <a:xfrm>
            <a:off x="301680" y="135396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UN</a:t>
            </a:r>
            <a:endParaRPr b="0" lang="en-US" sz="1800" spc="-1" strike="noStrike">
              <a:solidFill>
                <a:srgbClr val="000000"/>
              </a:solidFill>
              <a:latin typeface="Arial"/>
            </a:endParaRPr>
          </a:p>
        </p:txBody>
      </p:sp>
      <p:sp>
        <p:nvSpPr>
          <p:cNvPr id="209" name="TextBox 5"/>
          <p:cNvSpPr/>
          <p:nvPr/>
        </p:nvSpPr>
        <p:spPr>
          <a:xfrm>
            <a:off x="6804000" y="1308240"/>
            <a:ext cx="22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ERB/ADJECTIVE</a:t>
            </a:r>
            <a:endParaRPr b="0" lang="en-US" sz="1800" spc="-1" strike="noStrike">
              <a:solidFill>
                <a:srgbClr val="000000"/>
              </a:solidFill>
              <a:latin typeface="Arial"/>
            </a:endParaRPr>
          </a:p>
        </p:txBody>
      </p:sp>
      <p:sp>
        <p:nvSpPr>
          <p:cNvPr id="210" name="Rectangle 6"/>
          <p:cNvSpPr/>
          <p:nvPr/>
        </p:nvSpPr>
        <p:spPr>
          <a:xfrm>
            <a:off x="0" y="1677960"/>
            <a:ext cx="9144000" cy="446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Rectangle 7"/>
          <p:cNvSpPr/>
          <p:nvPr/>
        </p:nvSpPr>
        <p:spPr>
          <a:xfrm>
            <a:off x="4525920" y="1722600"/>
            <a:ext cx="46080" cy="5135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Rectangle 8"/>
          <p:cNvSpPr/>
          <p:nvPr/>
        </p:nvSpPr>
        <p:spPr>
          <a:xfrm>
            <a:off x="14400" y="5105520"/>
            <a:ext cx="91440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4" name=""/>
          <p:cNvGraphicFramePr/>
          <p:nvPr/>
        </p:nvGraphicFramePr>
        <p:xfrm>
          <a:off x="457200" y="2422440"/>
          <a:ext cx="8229600" cy="2651040"/>
        </p:xfrm>
        <a:graphic>
          <a:graphicData uri="http://schemas.openxmlformats.org/drawingml/2006/table">
            <a:tbl>
              <a:tblPr/>
              <a:tblGrid>
                <a:gridCol w="4114800"/>
                <a:gridCol w="4114800"/>
              </a:tblGrid>
              <a:tr h="9147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37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knows and understands techniques to create an environment that will engage, welcome, and reach each individual lear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apply strategies for engagement in online learning environments, e.g., asking questions to stimulate discu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6" name=""/>
          <p:cNvGraphicFramePr/>
          <p:nvPr/>
        </p:nvGraphicFramePr>
        <p:xfrm>
          <a:off x="457200" y="2422440"/>
          <a:ext cx="8229600" cy="320040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to use a range of technologies, both existing and emerging, that effectively support student learning and engagemen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ea typeface="Geneva"/>
                        </a:rPr>
                        <a:t>The online teacher knows and understands the need to continuously update their knowledge and skills for using the evolving technology tools that support online learning</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identify</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nd explore new tools and test their</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pplicability to their content areas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8" name=""/>
          <p:cNvGraphicFramePr/>
          <p:nvPr/>
        </p:nvGraphicFramePr>
        <p:xfrm>
          <a:off x="457200" y="2422440"/>
          <a:ext cx="8229600" cy="441972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A. The online teacher knows the primary concepts and structures of effective online instruction and is able to create learning experiences to enable student success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current best practices and strategies </a:t>
                      </a:r>
                      <a:r>
                        <a:rPr b="0" lang="en-US" sz="1600" spc="-1" strike="noStrike">
                          <a:solidFill>
                            <a:srgbClr val="000000"/>
                          </a:solidFill>
                          <a:latin typeface="Calibri"/>
                          <a:ea typeface="Geneva"/>
                        </a:rPr>
                        <a:t>for online teaching and learning and their implementation in online educ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role of online learning in preparing students</a:t>
                      </a:r>
                      <a:r>
                        <a:rPr b="0" lang="en-US" sz="1600" spc="-1" strike="noStrike">
                          <a:solidFill>
                            <a:srgbClr val="000000"/>
                          </a:solidFill>
                          <a:latin typeface="Calibri"/>
                          <a:ea typeface="Geneva"/>
                        </a:rPr>
                        <a:t> for the global community they live in, both now and in the futur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instructional delivery continuum </a:t>
                      </a:r>
                      <a:r>
                        <a:rPr b="0" lang="en-US" sz="1600" spc="-1" strike="noStrike">
                          <a:solidFill>
                            <a:srgbClr val="000000"/>
                          </a:solidFill>
                          <a:latin typeface="Calibri"/>
                          <a:ea typeface="Geneva"/>
                        </a:rPr>
                        <a:t>(e.g., fully online to blended to face-to-fa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Apply the current best practices and strategies </a:t>
                      </a:r>
                      <a:r>
                        <a:rPr b="0" lang="en-US" sz="1600" spc="-1" strike="noStrike">
                          <a:solidFill>
                            <a:srgbClr val="000000"/>
                          </a:solidFill>
                          <a:latin typeface="Calibri"/>
                          <a:ea typeface="Geneva"/>
                        </a:rPr>
                        <a:t>in online teaching to create rich and meaningful experiences for student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Build learner capacity for collaboration </a:t>
                      </a:r>
                      <a:r>
                        <a:rPr b="0" lang="en-US" sz="1600" spc="-1" strike="noStrike">
                          <a:solidFill>
                            <a:srgbClr val="000000"/>
                          </a:solidFill>
                          <a:latin typeface="Calibri"/>
                          <a:ea typeface="Geneva"/>
                        </a:rPr>
                        <a:t>in face-to-face, blended, and online environments and encourages students to participate as global citizens .</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Construct </a:t>
                      </a:r>
                      <a:r>
                        <a:rPr b="0" lang="en-US" sz="1600" spc="-1" strike="noStrike">
                          <a:solidFill>
                            <a:srgbClr val="000000"/>
                          </a:solidFill>
                          <a:latin typeface="Calibri"/>
                          <a:ea typeface="Geneva"/>
                        </a:rPr>
                        <a:t>flexible, digital, and interactive </a:t>
                      </a:r>
                      <a:r>
                        <a:rPr b="0" lang="en-US" sz="1600" spc="-1" strike="noStrike">
                          <a:solidFill>
                            <a:srgbClr val="ff0000"/>
                          </a:solidFill>
                          <a:latin typeface="Calibri"/>
                          <a:ea typeface="Geneva"/>
                        </a:rPr>
                        <a:t>learning experiences</a:t>
                      </a:r>
                      <a:r>
                        <a:rPr b="0" lang="en-US" sz="1600" spc="-1" strike="noStrike">
                          <a:solidFill>
                            <a:srgbClr val="000000"/>
                          </a:solidFill>
                          <a:latin typeface="Calibri"/>
                          <a:ea typeface="Geneva"/>
                        </a:rPr>
                        <a:t> that are useful in a </a:t>
                      </a:r>
                      <a:r>
                        <a:rPr b="0" lang="en-US" sz="1600" spc="-1" strike="noStrike">
                          <a:solidFill>
                            <a:srgbClr val="ff0000"/>
                          </a:solidFill>
                          <a:latin typeface="Calibri"/>
                          <a:ea typeface="Geneva"/>
                        </a:rPr>
                        <a:t>variety of delivery modes</a:t>
                      </a:r>
                      <a:r>
                        <a:rPr b="0" lang="en-US" sz="1600" spc="-1" strike="noStrike">
                          <a:solidFill>
                            <a:srgbClr val="000000"/>
                          </a:solidFill>
                          <a:latin typeface="Calibri"/>
                          <a:ea typeface="Geneva"/>
                        </a:rPr>
                        <a:t>. </a:t>
                      </a:r>
                      <a:r>
                        <a:rPr b="0" i="1" lang="en-US" sz="1600" spc="-1" strike="noStrike">
                          <a:solidFill>
                            <a:srgbClr val="000000"/>
                          </a:solidFill>
                          <a:latin typeface="Calibri"/>
                          <a:ea typeface="Geneva"/>
                        </a:rPr>
                        <a:t>This standard can only be evaluated in the context of instructor(s) having the ability to modify the cour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a:t>
                      </a:r>
                      <a:r>
                        <a:rPr b="1" lang="en-US" sz="1800" spc="-1" strike="noStrike" u="sng">
                          <a:solidFill>
                            <a:srgbClr val="ffffff"/>
                          </a:solidFill>
                          <a:uFillTx/>
                          <a:latin typeface="Calibri"/>
                        </a:rPr>
                        <a:t>to use a range of technologies, both existing and emerging</a:t>
                      </a:r>
                      <a:r>
                        <a:rPr b="1" lang="en-US" sz="1800" spc="-1" strike="noStrike">
                          <a:solidFill>
                            <a:srgbClr val="ffffff"/>
                          </a:solidFill>
                          <a:latin typeface="Calibri"/>
                        </a:rPr>
                        <a:t>, that effectively </a:t>
                      </a:r>
                      <a:r>
                        <a:rPr b="1" lang="en-US" sz="1800" spc="-1" strike="noStrike" u="sng">
                          <a:solidFill>
                            <a:srgbClr val="ffffff"/>
                          </a:solidFill>
                          <a:uFillTx/>
                          <a:latin typeface="Calibri"/>
                        </a:rPr>
                        <a:t>support student learning and engagement</a:t>
                      </a:r>
                      <a:r>
                        <a:rPr b="1" lang="en-US" sz="1800" spc="-1" strike="noStrike">
                          <a:solidFill>
                            <a:srgbClr val="ffffff"/>
                          </a:solidFill>
                          <a:latin typeface="Calibri"/>
                        </a:rPr>
                        <a: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use of an array of grade-appropriate online tools </a:t>
                      </a:r>
                      <a:r>
                        <a:rPr b="0" lang="en-US" sz="1600" spc="-1" strike="noStrike">
                          <a:solidFill>
                            <a:srgbClr val="000000"/>
                          </a:solidFill>
                          <a:latin typeface="Calibri"/>
                          <a:ea typeface="Geneva"/>
                        </a:rPr>
                        <a:t>for communication, productivity, collaboration, analysis,  presentation,  research, and content deliver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use of emerging technologies </a:t>
                      </a:r>
                      <a:r>
                        <a:rPr b="0" lang="en-US" sz="1600" spc="-1" strike="noStrike">
                          <a:solidFill>
                            <a:srgbClr val="000000"/>
                          </a:solidFill>
                          <a:latin typeface="Calibri"/>
                          <a:ea typeface="Geneva"/>
                        </a:rPr>
                        <a:t>in a variety of mediums for teaching and learning, based on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importance of interaction </a:t>
                      </a:r>
                      <a:r>
                        <a:rPr b="0" lang="en-US" sz="1600" spc="-1" strike="noStrike">
                          <a:solidFill>
                            <a:srgbClr val="000000"/>
                          </a:solidFill>
                          <a:latin typeface="Calibri"/>
                          <a:ea typeface="Geneva"/>
                        </a:rPr>
                        <a:t>in an online course and </a:t>
                      </a:r>
                      <a:r>
                        <a:rPr b="0" lang="en-US" sz="1600" spc="-1" strike="noStrike">
                          <a:solidFill>
                            <a:srgbClr val="ff0000"/>
                          </a:solidFill>
                          <a:latin typeface="Calibri"/>
                          <a:ea typeface="Geneva"/>
                        </a:rPr>
                        <a:t>the role of varied communication tools in supporting inter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Select and use a variety of online tools for communication, productivity, collaboration, analysis, presentation, research, and online content delivery as appropriate to the content area and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Effectively use and incorporate subject-specific and developmentally appropriate technologies, tools, and resourc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Use communication technologies in a variety of mediums and contexts for teaching and learn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20:17:34Z</dcterms:created>
  <dc:creator>Matt Wicks</dc:creator>
  <dc:description/>
  <dc:language>en-US</dc:language>
  <cp:lastModifiedBy>Kirsten Peterson</cp:lastModifiedBy>
  <dcterms:modified xsi:type="dcterms:W3CDTF">2011-11-09T14:25:11Z</dcterms:modified>
  <cp:revision>45</cp:revision>
  <dc:subject/>
  <dc:title>Slide 1</dc:title>
</cp:coreProperties>
</file>